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8EF-5442-452A-958A-F9AE0431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64C-EBF7-409C-9868-12E4566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631-FC78-4ADD-B735-336973EC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8DF-142B-43D1-ABEC-5BFFEC5E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01B-64AF-49CB-8530-9F406620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CE2-1DC4-4B6A-9365-81DDDCE3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174-F88A-4E8F-9B0D-CFC2840A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A21-C5C1-42F6-9647-CB12C74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887-65E2-488F-8F1E-8CA6CFA1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37D-8228-4128-B589-436E552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024-5820-4AC9-A63F-DE595D83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6B3-A0AB-4545-8033-F11D3226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631-FE07-4A7E-AE30-CAADF517B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lo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14040" y="21333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think about whether or not their characters get what they want and how this happens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s is the plot of your story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oday, your are going to work on creating a plot profile for your own stories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the climax in your character’s story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hat events will lead up to that moment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In your Writer’s Notebook, fill out the rising action chart to prepare for your own story writing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6:03:17Z</dcterms:created>
  <dc:creator>AAPS</dc:creator>
  <dc:description/>
  <dc:language>en-US</dc:language>
  <cp:lastModifiedBy>Carrie Dworkin</cp:lastModifiedBy>
  <dcterms:modified xsi:type="dcterms:W3CDTF">2005-08-12T17:52:27Z</dcterms:modified>
  <cp:revision>4</cp:revision>
  <dc:subject/>
  <dc:title>Plot</dc:title>
</cp:coreProperties>
</file>